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63C3-236F-400B-A7EF-2E99015E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4C03-815A-4DDD-9F24-571681AC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F421-D039-4DE4-99C7-C3E7396E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EE13-5955-44DD-BFA6-178833B2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B16C-370B-4ADB-BEA2-37C055F6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7F9C-95B4-4735-B504-A736DF04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73A6-1F42-4B2E-9652-C4856C9E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2F81-6985-4946-B99E-16C4BA6B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2EBA-4E59-4455-8D0A-BA868C67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D854-5453-4580-9E4B-6CD200AC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AC48-56D1-425C-AEDD-6295EF0A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5A93-D90A-4299-AB8E-A80D0BCC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B583-6DF9-4F86-81A3-FB5292DD3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6560" y="824040"/>
            <a:ext cx="82108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6560" y="824040"/>
            <a:ext cx="8210880" cy="52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6560" y="824040"/>
            <a:ext cx="82108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6560" y="824040"/>
            <a:ext cx="82108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7:22:07Z</dcterms:created>
  <dc:creator>Patrick J. Mooney</dc:creator>
  <dc:description/>
  <dc:language>en-US</dc:language>
  <cp:lastModifiedBy>Patrick J. Mooney</cp:lastModifiedBy>
  <dcterms:modified xsi:type="dcterms:W3CDTF">2010-09-15T17:39:23Z</dcterms:modified>
  <cp:revision>3</cp:revision>
  <dc:subject/>
  <dc:title>Slide 1</dc:title>
</cp:coreProperties>
</file>